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F02-3999-49E8-8201-FCDD0795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7F3-4093-4BB3-89E3-910BA44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E3A-196B-4BDA-865C-6A64FC84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D72-ED24-4F3E-83EE-5D4843E4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48C-4CE3-4B0E-BD58-6AD05400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46D-AF4D-4C0D-80D4-C58576F3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B91-2D4B-4423-B9A4-5AF3C572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D93-4853-42B4-9FF0-A7B9E3EF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C5D-7F9A-45C1-B7C6-29FE1BE0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2FD-2E5D-4692-BFE9-D149830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E07-CB10-4012-A6F1-13AB40A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FE6-F6DD-4AE7-AD51-E7F1B751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6E47-CFBF-41FC-94EB-3C71754BE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"/>
            <a:ext cx="838224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4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5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Techniqu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50567" b="76790"/>
          <a:stretch/>
        </p:blipFill>
        <p:spPr>
          <a:xfrm>
            <a:off x="380880" y="1752480"/>
            <a:ext cx="3353040" cy="38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3692520"/>
            <a:ext cx="5181840" cy="171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39330" t="18631" r="0" b="0"/>
          <a:stretch/>
        </p:blipFill>
        <p:spPr>
          <a:xfrm>
            <a:off x="228600" y="2158920"/>
            <a:ext cx="4114800" cy="134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28600" y="152280"/>
            <a:ext cx="8610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llow instructions below.  In the graph for part (c), include all the points found in part (a), plus any (open or closed) sutur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25520" y="1420920"/>
            <a:ext cx="8718480" cy="426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152280"/>
            <a:ext cx="8610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early label 3 key points in each of the following grap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2112840"/>
            <a:ext cx="8381880" cy="478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7200" y="2841480"/>
            <a:ext cx="8653320" cy="506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3520" y="3506760"/>
            <a:ext cx="8610480" cy="45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0400" y="1447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0400" y="21859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0040" y="2909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400" y="351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33520" y="4149720"/>
            <a:ext cx="5410080" cy="438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0400" y="4191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8-01-19T10:11:58Z</dcterms:modified>
  <cp:revision>12</cp:revision>
  <dc:subject/>
  <dc:title>Slide 1</dc:title>
</cp:coreProperties>
</file>